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AB1-7672-442A-B301-AF7B74DA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CFE-80B9-4288-8203-2CF6B3DD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1DB-79AC-4517-A7EC-EFAA02B2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02D-9C69-49CC-8E52-0D7960C1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F2BB-3226-4BFA-B837-9B47619E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11A3-6818-4253-82FA-FE5D27CF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2003-3229-40D1-B023-FAA0655C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DF04-AAFF-412F-B2E9-6540D19C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3E9C-8D76-42ED-AB12-5527352F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1761-26EF-48E0-BD73-1834B003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89BE-B08C-49C9-BF8E-2110E80B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8D7-3DCB-4C6D-BA98-D4EC1E7C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131B-3F33-4D69-AA8A-202928DD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9DD8-6B95-4E06-A526-C8FC3EB3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631C-2255-4746-AC97-7FA391BF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BB58-2A44-402C-85F0-E3DC93C5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CA06-F589-4580-AD7D-C3206117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EF8-8BE8-4F86-B64D-E1064342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56D-BE55-4398-A050-93C2D587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F10-6549-4D07-BBA6-3B933F0C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661-F480-4F18-A675-636F391C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709-53DC-487C-9FC3-97AD89F6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6505-FCC6-48A6-BDD5-178AD2E8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6DF-796B-4ADB-85C2-9C4455BD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87B8-0F05-4CEF-B8DA-B205305A60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4EEE-9663-4918-A75E-7BD4F952DC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endlin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other Measure of Growth Rat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OES THE DATA SHO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wth rate and trend l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does the growth rate compare to students in the normed sample at the 13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25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5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ercentil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does the trend line indicate that the student is going to achieve proficienc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ademic—25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3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ercenti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havior—75 percent or 100 perc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s at Level III that approximate special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s: How Do They Show Growth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e that you draw through a series of data points that represents the student’s actual rate of prog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rend line slope is flatter than the aimline, then adjust inter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rend line slope is steeper than the aimline then adjust goal or area of inter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slopes are the same make no ch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11386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 Procedures:  Can be done in Excel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a horizontal line through median of first half of data – form an intersection with vertical 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a horizontal line through median of second half of data – form an intersection with vertical 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nect the two interse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your decision, is it the same decis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s and Entitlement Criter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to determine how long it will be before the student’s skills are likely to be profici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quired for Behavior Entitl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for Academics as we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cademics, can add student’s current growth rate to the median of the last 3 data points to determine how many weeks it will take the student to meet proficiency standar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:  Short Term Intervention Need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 is in Grade 4 and is receiving intervention in reading flu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3/1/10, the median of the last 3 data points for the student is 6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tudent’s growth rate is 3 words per we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25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ercentile for Spring is 8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6 - 7 weeks, the student is likely to have reached proficiency on this prob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7 – 68 = 1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 X 6   = 1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 Long-term Intervention Need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 is in Grade 4 and is receiving intervention in reading flu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3/1/10, the median of the last 3 data points for the student is 6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udent’s growth rate is 0.5 words/we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udent will need 36 to 37 weeks to become profici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7 –  68 = 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0.5 x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6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 1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that time the student will be into the next school year and, possibly, in the next grade level with even more difficult reading passages to mas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 Long-term Intervention Need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at time the student will be into the next school year and, possibly, in the next grade level with even more difficult reading passages to mas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OES THE DATA SHO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ison to peers, e.g. normative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the student above or below the 13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25th/3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5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ercentile for academ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s the student met behavior goa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9:00:06Z</dcterms:created>
  <dc:creator>user</dc:creator>
  <dc:description/>
  <dc:language>en-US</dc:language>
  <cp:lastModifiedBy>user</cp:lastModifiedBy>
  <dcterms:modified xsi:type="dcterms:W3CDTF">2010-09-03T19:00:38Z</dcterms:modified>
  <cp:revision>1</cp:revision>
  <dc:subject/>
  <dc:title>Trendlines</dc:title>
</cp:coreProperties>
</file>